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0E74-62C3-4BC2-BCB9-1CBD57BB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hange Science Requirements for Long-Term Arch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significant property - the scientific integrity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MIS entity&lt;-&gt;relationship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s to archive and distribute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ransfer materials to another archive if unable to support it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distribution rights for foreig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of limited distribution during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easy to for others in field to underst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full of jargon and specialize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difficult for users not in field to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NSIDC web information explicitly at undergraduate studen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chang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9C84-DE5D-4CF9-8997-FF34BFB5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9496-4B1C-4B50-94FB-2692F82B0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F24C-5BB9-4774-BA3B-7B8C0FE31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76B8-3852-4FD9-8657-F69F764E4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4594-D9AE-4978-98C9-4F13735D4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828C-BDAB-47C5-B2CF-3D8D4AC6B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DE08-539E-4350-8158-FA3DB79D3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E192-A445-43D8-B79A-D7A78BDBB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BC6F-611B-46CF-BA86-A8B53B808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CD4A-51ED-48E0-9FDC-101547F8A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35B2-DEEE-49B8-9309-5161415F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EA32-0D6A-44EE-AB1C-39083C60A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view of Guiding Documents - 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A252-FFFC-4729-9E49-8817551D6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32000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venance &amp; Context Workshop - Guiding Documents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64008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 R. Duerr at the Summer Institute on Data Curation, June 2-5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aduate School of Library and Information Science, University of Illinois at Urbana-Champa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685800"/>
            <a:ext cx="8458200" cy="14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458200" y="6302520"/>
            <a:ext cx="590400" cy="50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venance and Contextual Informa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/sensor characteristics including pre-flight or pre-operational performance measurements (e.g., spectral response, noise characteristic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/sensor calibration data and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algorithms and their scientific basis, including complete description of any sampling or mapping algorithm used in creation of the product (e.g., contained in peer-reviewed papers, in some cases supplemented by thematic information introducing the data set or derived produ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information on any ancillary data or other data sets used in generation or calibration of the data set or deriv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960" y="645804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CB9-0752-41F9-9A47-97BCF724D34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4008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 R. Duerr at the Summer Institute on Data Curation, June 2-5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aduate School of Library and Information Science, University of Illinois at Urbana-Champa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685800"/>
            <a:ext cx="8458200" cy="14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458200" y="6302520"/>
            <a:ext cx="590400" cy="50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ovenance and Contextual Information (cont.)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88000"/>
          </a:bodyPr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history including versions of processing source code corresponding to versions of the data set or derived product held in the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ssess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ion record, including identification of validation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se of earth based data, station location and any changes in location, instrumentation, controlling agency, surrounding land use and other factors which could influence the long-term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ibliography of pertinent Technical Notes and articles, including refereed publications reporting on research using the data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016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ceived back from users of the data set o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960" y="645804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32D-C171-4CE7-93E1-784B808347C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ere did it come from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 = PREservation Metadata: Implementa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an OCLC and RLG sponsored international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s from libraries, museums, archives, government, and the private s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OAIS refer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at’s its purpose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core preservation metadata set with broad applicability across the digital preservatio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a 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XML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Examples are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What’s its status?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ed by the Library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orial board with international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community consulted on changes through the PREMIS Implementers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1 was released in June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2 was released in March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6200" y="160020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6483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1240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61960" y="2057400"/>
            <a:ext cx="1523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361960" y="4038480"/>
            <a:ext cx="1523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257440" y="2057040"/>
            <a:ext cx="1523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57440" y="4038480"/>
            <a:ext cx="1523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90920" y="1828440"/>
            <a:ext cx="3733560" cy="2286000"/>
          </a:xfrm>
          <a:prstGeom prst="wedgeRoundRectCallout">
            <a:avLst>
              <a:gd name="adj1" fmla="val -55615"/>
              <a:gd name="adj2" fmla="val 61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herent set of con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reasonab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d as a un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web site, da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r collection of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676520"/>
            <a:ext cx="3733920" cy="2286000"/>
          </a:xfrm>
          <a:prstGeom prst="wedgeRoundRectCallout">
            <a:avLst>
              <a:gd name="adj1" fmla="val -66453"/>
              <a:gd name="adj2" fmla="val 324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crete unit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igital 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352680"/>
            <a:ext cx="3733920" cy="2286000"/>
          </a:xfrm>
          <a:prstGeom prst="wedgeRoundRectCallout">
            <a:avLst>
              <a:gd name="adj1" fmla="val -4847"/>
              <a:gd name="adj2" fmla="val -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s of one 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 or permi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aining to an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n ag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opywrite notice, leg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, deposit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95480" y="1447560"/>
            <a:ext cx="3733920" cy="2286000"/>
          </a:xfrm>
          <a:prstGeom prst="wedgeRoundRectCallout">
            <a:avLst>
              <a:gd name="adj1" fmla="val -4847"/>
              <a:gd name="adj2" fmla="val -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nvolves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one object o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to the preserv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reated, archive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1676520"/>
            <a:ext cx="3733920" cy="2286000"/>
          </a:xfrm>
          <a:prstGeom prst="wedgeRoundRectCallout">
            <a:avLst>
              <a:gd name="adj1" fmla="val -66453"/>
              <a:gd name="adj2" fmla="val 324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, organization,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gram associ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reservation ev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fe of an object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r. Spock donate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Entity-Relationship Diagram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0666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1240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98108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336"/>
                </a:moveTo>
                <a:cubicBezTo>
                  <a:pt x="240" y="268"/>
                  <a:pt x="0" y="200"/>
                  <a:pt x="0" y="144"/>
                </a:cubicBezTo>
                <a:cubicBezTo>
                  <a:pt x="0" y="88"/>
                  <a:pt x="400" y="24"/>
                  <a:pt x="48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Types of Object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 - “the set of files needed for a complete and reasonable rendition of an Intellectual Ent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stream - “contiguous or non-contiguous data within a file that has meaningful common properties for preservation purpos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dentifier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dentifier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ation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Categor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ition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Algorit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DigestOrigin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Desig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Ver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RegistryR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Properties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ib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hibitor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CreatedBy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ngApplicationEx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Location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Location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InformationEnc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Validation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Information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Characteri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Pur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end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cy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cyIdentif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endencyIdentifier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endencyIdentifier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Other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Depend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Other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utline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IS Refer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GCRP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 Metadata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Sub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edObjectIdentificatio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edEventIdentificatio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Event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IntellectualEntity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RightsStatementIdentifier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Object Metadata Not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fields are mand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fields apply to all types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ields are 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Even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Date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D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Outcome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Outcome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Agen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Agent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Object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ingObjectIdentifier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Agent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Ident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Identifier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Identifier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PREMIS - Rights Metadat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s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sStat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right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cense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teInformation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sGr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Of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GrantedN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Objec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AgentIdent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e OAIS Reference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CSDS and ISO standard detail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ponsibilities of a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nctional model describing how to preserve information and make it availabl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formation model describing what ancillary information is needed to ensure that future users understand and can use the information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mon set of terminology that can be used to describe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Archive Responsibilitie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information providers to receive and obtain sufficient rights to appropriate information to ensure long-term pre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te a community which should be able to understand the information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that the information is independently understandable to that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procedures and policies regarding data preservation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he information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Functional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295280"/>
            <a:ext cx="487692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IS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5053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505320"/>
            <a:ext cx="99036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41911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5146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4952880"/>
            <a:ext cx="4572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2767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24080" y="289512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89548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800600" y="3733560"/>
            <a:ext cx="990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733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2767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733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5638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38080" y="2057040"/>
            <a:ext cx="1371600" cy="12193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114800"/>
            <a:ext cx="137160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133720"/>
            <a:ext cx="137160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781680" y="4114440"/>
            <a:ext cx="1447920" cy="1066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66880" y="3885840"/>
            <a:ext cx="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43400" y="4572000"/>
            <a:ext cx="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24480" y="3885840"/>
            <a:ext cx="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952880" y="3200400"/>
            <a:ext cx="0" cy="17524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2286000"/>
            <a:ext cx="0" cy="2666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43400" y="5334120"/>
            <a:ext cx="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rmation Model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1373040"/>
            <a:ext cx="6324480" cy="3886200"/>
            <a:chOff x="1371600" y="1373040"/>
            <a:chExt cx="6324480" cy="3886200"/>
          </a:xfrm>
        </p:grpSpPr>
        <p:sp>
          <p:nvSpPr>
            <p:cNvPr id="92" name=""/>
            <p:cNvSpPr/>
            <p:nvPr/>
          </p:nvSpPr>
          <p:spPr>
            <a:xfrm>
              <a:off x="2286000" y="1449360"/>
              <a:ext cx="16002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1449360"/>
              <a:ext cx="16002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er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1373040"/>
              <a:ext cx="5867280" cy="1981440"/>
            </a:xfrm>
            <a:custGeom>
              <a:avLst/>
              <a:gdLst/>
              <a:ahLst/>
              <a:rect l="l" t="t" r="r" b="b"/>
              <a:pathLst>
                <a:path w="3696" h="1248">
                  <a:moveTo>
                    <a:pt x="0" y="0"/>
                  </a:moveTo>
                  <a:lnTo>
                    <a:pt x="288" y="0"/>
                  </a:lnTo>
                  <a:lnTo>
                    <a:pt x="288" y="960"/>
                  </a:lnTo>
                  <a:lnTo>
                    <a:pt x="1824" y="960"/>
                  </a:lnTo>
                  <a:lnTo>
                    <a:pt x="1824" y="528"/>
                  </a:lnTo>
                  <a:lnTo>
                    <a:pt x="2016" y="528"/>
                  </a:lnTo>
                  <a:lnTo>
                    <a:pt x="2016" y="960"/>
                  </a:lnTo>
                  <a:lnTo>
                    <a:pt x="3408" y="960"/>
                  </a:lnTo>
                  <a:lnTo>
                    <a:pt x="3408" y="48"/>
                  </a:lnTo>
                  <a:lnTo>
                    <a:pt x="3696" y="48"/>
                  </a:lnTo>
                  <a:lnTo>
                    <a:pt x="3696" y="1248"/>
                  </a:lnTo>
                  <a:lnTo>
                    <a:pt x="0" y="1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4192560"/>
              <a:ext cx="22860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ut Packag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6720" y="34909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Packag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8160" y="2897280"/>
              <a:ext cx="40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ag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66720" y="3963600"/>
              <a:ext cx="1143000" cy="762120"/>
            </a:xfrm>
            <a:prstGeom prst="line">
              <a:avLst/>
            </a:prstGeom>
            <a:ln w="38160">
              <a:solidFill>
                <a:srgbClr val="adf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rmation Model - Content Info.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bject - the information to be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al Information - allows a user to understand th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 (e.g., flat binary file, ASCII table, net-CDF file, HDF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(e.g., a table of station IDs, dates, latitude, longitude, incidence angle, brightness 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65960" y="974880"/>
            <a:ext cx="45072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96400" y="974880"/>
            <a:ext cx="45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7120" y="954000"/>
            <a:ext cx="1656000" cy="532080"/>
          </a:xfrm>
          <a:custGeom>
            <a:avLst/>
            <a:gdLst/>
            <a:ahLst/>
            <a:rect l="l" t="t" r="r" b="b"/>
            <a:pathLst>
              <a:path w="3696" h="1248">
                <a:moveTo>
                  <a:pt x="0" y="0"/>
                </a:moveTo>
                <a:lnTo>
                  <a:pt x="288" y="0"/>
                </a:lnTo>
                <a:lnTo>
                  <a:pt x="288" y="960"/>
                </a:lnTo>
                <a:lnTo>
                  <a:pt x="1824" y="960"/>
                </a:lnTo>
                <a:lnTo>
                  <a:pt x="1824" y="528"/>
                </a:lnTo>
                <a:lnTo>
                  <a:pt x="2016" y="528"/>
                </a:lnTo>
                <a:lnTo>
                  <a:pt x="2016" y="960"/>
                </a:lnTo>
                <a:lnTo>
                  <a:pt x="3408" y="960"/>
                </a:lnTo>
                <a:lnTo>
                  <a:pt x="3408" y="48"/>
                </a:lnTo>
                <a:lnTo>
                  <a:pt x="3696" y="48"/>
                </a:lnTo>
                <a:lnTo>
                  <a:pt x="3696" y="1248"/>
                </a:lnTo>
                <a:lnTo>
                  <a:pt x="0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21520" y="1617840"/>
            <a:ext cx="6447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7716600" y="1464840"/>
            <a:ext cx="322200" cy="204840"/>
          </a:xfrm>
          <a:prstGeom prst="line">
            <a:avLst/>
          </a:prstGeom>
          <a:ln w="38160">
            <a:solidFill>
              <a:srgbClr val="adf0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AIS Info. Model - Preservation Description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nance - documents the history of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- documents object identifiers and their generation mechanis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ity - documents methods used to ensure there are no undocumente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- the relationship of the object to it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0" y="934920"/>
            <a:ext cx="451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440" y="934920"/>
            <a:ext cx="450720" cy="287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914400"/>
            <a:ext cx="1655640" cy="531720"/>
          </a:xfrm>
          <a:custGeom>
            <a:avLst/>
            <a:gdLst/>
            <a:ahLst/>
            <a:rect l="l" t="t" r="r" b="b"/>
            <a:pathLst>
              <a:path w="3696" h="1248">
                <a:moveTo>
                  <a:pt x="0" y="0"/>
                </a:moveTo>
                <a:lnTo>
                  <a:pt x="288" y="0"/>
                </a:lnTo>
                <a:lnTo>
                  <a:pt x="288" y="960"/>
                </a:lnTo>
                <a:lnTo>
                  <a:pt x="1824" y="960"/>
                </a:lnTo>
                <a:lnTo>
                  <a:pt x="1824" y="528"/>
                </a:lnTo>
                <a:lnTo>
                  <a:pt x="2016" y="528"/>
                </a:lnTo>
                <a:lnTo>
                  <a:pt x="2016" y="960"/>
                </a:lnTo>
                <a:lnTo>
                  <a:pt x="3408" y="960"/>
                </a:lnTo>
                <a:lnTo>
                  <a:pt x="3408" y="48"/>
                </a:lnTo>
                <a:lnTo>
                  <a:pt x="3696" y="48"/>
                </a:lnTo>
                <a:lnTo>
                  <a:pt x="3696" y="1248"/>
                </a:lnTo>
                <a:lnTo>
                  <a:pt x="0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1577880"/>
            <a:ext cx="6444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000640" y="1425240"/>
            <a:ext cx="322200" cy="204840"/>
          </a:xfrm>
          <a:prstGeom prst="line">
            <a:avLst/>
          </a:prstGeom>
          <a:ln w="38160">
            <a:solidFill>
              <a:srgbClr val="adf0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533520"/>
            <a:ext cx="8686800" cy="3045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14640" y="49320"/>
            <a:ext cx="47433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5:46:27Z</dcterms:modified>
  <cp:revision>6</cp:revision>
  <dc:subject/>
  <dc:title>Preservation &amp; Stewardship</dc:title>
</cp:coreProperties>
</file>